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CFE-E474-497A-9846-7827296B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60F-09ED-438E-90EB-B9490BD7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620-F556-44F9-B7FD-BE8AB6A7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2EB-344B-4252-BDC0-22F6F0EE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6D09D-7D36-4C10-A5E7-23C08349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FB718-D907-4303-886F-4503D10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421DB-F3A1-42A3-BBC6-14B0B7BA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CC5E-E494-46D0-9432-BE2D3A1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E4AF8-D535-4926-9306-A1D1590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3D1D-5F01-41D8-B5B6-978F29B5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09009-933B-42D9-9E1F-33401D2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533-732E-4EAF-8CE4-DBD552C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108DF-5D36-42CC-A5FA-296BC1D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F9793-E15B-4B61-9C34-4FB65CE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03B02-7833-470A-9116-A75823D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B6FC6-C6A3-444A-8F2E-92253139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F2C87-89FC-4310-BF96-D7DF52A2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009-CEBE-4B6F-BE56-4F6171D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15C-714B-432C-A4BF-6698011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F59-9F6C-410F-BF5A-39AE2BA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CD1-0DB6-40B3-8A95-854B2B28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BEF-1C24-49C9-9DE1-977BDBF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8AD-67D8-464A-8281-B9F2C34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8F2-DAF0-4F62-B2AA-6ACA1D1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22E0-0B30-453C-BF04-6CF30F1179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4AC-C369-4ACD-94F8-C0C7A7C71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032280"/>
            <a:ext cx="7882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If I had influence with the good fairy who is supposed to preside over the christening of all childr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I should ask that her gift to each child in the world be a </a:t>
            </a:r>
            <a:r>
              <a:rPr b="1" lang="en-US" sz="2000" spc="-1" strike="noStrike">
                <a:solidFill>
                  <a:srgbClr val="ffff00"/>
                </a:solidFill>
                <a:latin typeface="Viner Hand ITC"/>
              </a:rPr>
              <a:t>sense of wonder</a:t>
            </a:r>
            <a:r>
              <a:rPr b="1" lang="en-US" sz="1800" spc="-1" strike="noStrike">
                <a:solidFill>
                  <a:srgbClr val="ffffff"/>
                </a:solidFill>
                <a:latin typeface="Viner Hand ITC"/>
              </a:rPr>
              <a:t> so indestructible that it would last throughout life</a:t>
            </a:r>
            <a:r>
              <a:rPr b="0" lang="en-US" sz="1800" spc="-1" strike="noStrike">
                <a:solidFill>
                  <a:srgbClr val="ffffff"/>
                </a:solidFill>
                <a:latin typeface="Viner Hand ITC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iner Hand ITC"/>
              </a:rPr>
              <a:t>Rachel Ca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811160" cy="2438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4495680"/>
            <a:ext cx="3962520" cy="2094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76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8:04:15Z</dcterms:created>
  <dc:creator>TechMedic</dc:creator>
  <dc:description/>
  <dc:language>en-US</dc:language>
  <cp:lastModifiedBy>TechMedic</cp:lastModifiedBy>
  <dcterms:modified xsi:type="dcterms:W3CDTF">2010-05-13T18:14:31Z</dcterms:modified>
  <cp:revision>2</cp:revision>
  <dc:subject/>
  <dc:title>Slide 1</dc:title>
</cp:coreProperties>
</file>